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7.wmf" ContentType="image/x-wmf"/>
  <Override PartName="/ppt/media/image6.wmf" ContentType="image/x-wmf"/>
  <Override PartName="/ppt/media/image11.jpeg" ContentType="image/jpeg"/>
  <Override PartName="/ppt/media/clap.wav" ContentType="audio/x-wav"/>
  <Override PartName="/ppt/media/image2.wmf" ContentType="image/x-wmf"/>
  <Override PartName="/ppt/media/image9.wmf" ContentType="image/x-wmf"/>
  <Override PartName="/ppt/media/image1.wmf" ContentType="image/x-wmf"/>
  <Override PartName="/ppt/media/image10.jpeg" ContentType="image/jpeg"/>
  <Override PartName="/ppt/media/whoosh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type.wav" ContentType="audio/x-wav"/>
  <Override PartName="/ppt/media/image3.wmf" ContentType="image/x-wmf"/>
  <Override PartName="/ppt/media/laser.wav" ContentType="audio/x-wav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2281-37A0-46AD-B53F-F77118D3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D6DF-500E-4D8B-AEC9-D6946C8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402A-ABFB-4A7A-A947-8E56F4B6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F46F-8661-4136-8BA7-966A4882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02B6-59B0-40F2-8024-29FDE120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160F-4F37-473A-B4D9-7933CC73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1821-8417-43AE-BB20-60CD849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2E8E-97A6-406D-A62A-7ACAB41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9DF1-04DE-4033-822D-30E9351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B510-A032-41DF-9E3B-B1339C7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6FAC-977C-4D80-BEE2-2779879A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6C02-6C28-4A69-9663-7D032157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37D8-8503-4918-8A83-13C07AC157A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1 0f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3565440" y="613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sales@serenade.co.nz" TargetMode="External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Welcome to</a:t>
            </a:r>
            <a:br>
              <a:rPr sz="4400"/>
            </a:b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 SERENADE BUSINESS SOFTWA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rom Serrata Systems &amp; Software L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6705720" y="152280"/>
            <a:ext cx="192852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asy to 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nstructed in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mpetitively Priced by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ustom Programmed a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019920" y="1905120"/>
            <a:ext cx="2590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asy to Ope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nstructed in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mpetitively Priced by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ustom Programmed a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781680" y="1752480"/>
            <a:ext cx="1814760" cy="1403640"/>
          </a:xfrm>
          <a:prstGeom prst="rect">
            <a:avLst/>
          </a:prstGeom>
          <a:ln w="0">
            <a:noFill/>
          </a:ln>
        </p:spPr>
      </p:pic>
      <p:sp>
        <p:nvSpPr>
          <p:cNvPr id="94" name="Line 13"/>
          <p:cNvSpPr/>
          <p:nvPr/>
        </p:nvSpPr>
        <p:spPr>
          <a:xfrm flipV="1">
            <a:off x="3276720" y="1981080"/>
            <a:ext cx="3733560" cy="4572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3733920" y="2590920"/>
            <a:ext cx="2895480" cy="3808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5"/>
          <p:cNvSpPr/>
          <p:nvPr/>
        </p:nvSpPr>
        <p:spPr>
          <a:xfrm flipV="1">
            <a:off x="6705720" y="3276720"/>
            <a:ext cx="1066680" cy="228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6"/>
          <p:cNvSpPr/>
          <p:nvPr/>
        </p:nvSpPr>
        <p:spPr>
          <a:xfrm flipV="1">
            <a:off x="5029200" y="3200400"/>
            <a:ext cx="2133720" cy="13716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7"/>
          <p:cNvSpPr/>
          <p:nvPr/>
        </p:nvSpPr>
        <p:spPr>
          <a:xfrm flipV="1">
            <a:off x="3962520" y="2971440"/>
            <a:ext cx="2819160" cy="10666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733920" y="2819160"/>
            <a:ext cx="2895480" cy="6858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6095880" y="3352320"/>
            <a:ext cx="1295640" cy="16002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086600" y="5029200"/>
            <a:ext cx="18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00"/>
                </a:solidFill>
                <a:latin typeface="Times New Roman"/>
              </a:rPr>
              <a:t>Keeps the users happ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304040" y="5985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1219320" y="1905120"/>
            <a:ext cx="7162560" cy="419076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E TOTAL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9900"/>
                </a:solidFill>
                <a:latin typeface="Times New Roman"/>
              </a:rPr>
              <a:t>………………</a:t>
            </a:r>
            <a:r>
              <a:rPr b="0" lang="en-NZ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781680" y="990720"/>
            <a:ext cx="1814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 is by 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rata Systems &amp; Software Lt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NZ Owned and operated since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ustomisation willingly undertaken by development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xperienced professionals who understand your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rincipals have over 30 years each in the computer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upport staff have a minimum of 10 years in the computer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397920" y="5943600"/>
            <a:ext cx="178560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 Overview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Z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werfu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eature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t Keys and Bar Menu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crolling 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&amp; Shoo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ulti-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unction Key or Listing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ingle Key-strok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ustomised Menus &amp;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vernight Batch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mall Company to Multi-si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 to read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arehouse Management tracking by pallet and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ales Orders /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sset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pecial modul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bt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9"/>
          <p:cNvSpPr/>
          <p:nvPr/>
        </p:nvSpPr>
        <p:spPr>
          <a:xfrm>
            <a:off x="731520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tock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19360" y="1828800"/>
            <a:ext cx="38098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Up to 30 character par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8 character look-up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ultiple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Alternate / superseded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Up to 5 sales prices per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Kit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Inter-location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Full audit tr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Hand-held scanners catered for during stock-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Serial/ batch number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Average / standard / last / FIFO co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29"/>
          <p:cNvSpPr/>
          <p:nvPr/>
        </p:nvSpPr>
        <p:spPr>
          <a:xfrm>
            <a:off x="1066680" y="5783400"/>
            <a:ext cx="137160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6 character alpha-numeric code for ven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ultiple vendors per stock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Differing purchase/sale units (ie carton/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Foreign or local currency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Receipts stored in local and foreign 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atching receipts t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Immediate print options for Purchase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ultiple lead-times allowed per stock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aster Production Schedule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Jobs created from schedule or ma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Full MRP including sub-assemb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Extensive text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Labour can go to pay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Variance report on comple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Serially tracked parts recorded ie serial parts in serial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Products from partly completed jobs available for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6668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Simple initial entry of Slot codes (individual or b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Different kinds of slot e.g. storage, picking, refrigerated, high-valu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Integration with Stock, Order Processing and Purchase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Manual instructions to merge/move pal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Stock updated when picked (not when invoic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Stock/pallet transfers reco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Potential 'paperless' pick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523880" y="5257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 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BASIC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ulti-platform – Novell / Windows / UNIX / LIN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ulti-database - can be Oracle / Pervasive SQL / MS SQL / DB2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raphic (GUI) and character based versions may be run concurrently and access the sam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odular design but fully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ser-friendly – eg Debtors / Creditors / GL etc may close and roll month-end at different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Flexible – eg postings to next period before month-end roll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Free-format Invoices / Credit notes / statements / quotations etc – chose your own statio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Your system - Customisation is available when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liable - Very experienced support staff in the event of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315200" y="6324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arehouse Palle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Virtually unlimited parts per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50 levels sub-assembly/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% quantity adjustments up/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osting by material / labour /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Wastage &amp; set-up allow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Enter only direct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Assembly list suitable for pi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Text (instructions) available for overall and/o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Enquiry drill-down/up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43000" y="5105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arehouse Palle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Bills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Unlimited number of qu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Follow-up reports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Accesses present stock levels and 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Display of costs and gross margins by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Uses existing discounts (over-ride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Quotes may be converted t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Extensive text for comment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219320" y="5638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arehouse Palle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Bills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ales Orders /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Point of sale – well fea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Full customer look-up and wild card sear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Invoice-to and ship-to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Foreign currency per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Records of which operator did which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Alternative / superseded parts displayed if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Order history retained for a variable number of peri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Discounts available as rebates on prompt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Warehouse Palle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Bills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Sales Orders /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Variable key analysis as up to 5 elements from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ustomer tur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ost of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ommission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Reports by This period/Last 12 periods/YTD v costs or bud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Sequencing of sales analysis as code / high-low / low-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3-year demand for fore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haracter or graphical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Budgets – bulk or period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6035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6 character alphanumeric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Individual terms/discounts per cr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Free-format remittance advices &amp; cheques or both on the sam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reates DC files for your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ultiple currencies / exchange variances accommo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Pre-list payment schedules – partial and prioritised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Stock updates optional on invoice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477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6 character alphanumeric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View debtor accesses all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'Open Item' and 'Bal/Fwd' - changeabl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Foreign currency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Rebates are allowed as well as 'write on/off'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Postings may be made for future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Invoices and Credit Notes may be viewed and reprinted from e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Account notes and a contact diary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4008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1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Up to 9 different cash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Bank Statement reconciliation (auto or manu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heque register and banking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Creation of DC file to pass to th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Extensive text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Prints &amp; re-sequences che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Posts to debtors/creditors led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943600" y="4648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Multi-element accoun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Copying of a chart of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Batch entry of journals and accr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Batch reversal and de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Posting to control accounts in total or by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'Drill down' from total to posting to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Free format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Graphical outpu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Budgets with mid-year amendm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ash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71500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2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Multiple rates of pay, tax, allowance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Multiple payment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Automatic, sequential or manual generation of 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Up to 4 uplifts to a standard pay rate to cater for ov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Payment by cash minimum, direct credits, cheque and cash or all of 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Ability to amend a payment after it has been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Viewing of employee details and pay sl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ash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705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9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eatures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12 character asset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3 character sub-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Items grouped by “type” and “own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Budget and CAPEX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Inter-location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First year depreciation can be processed differently to remaining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Revaluation of item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Sell / Unsell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00"/>
                </a:solidFill>
                <a:latin typeface="Times New Roman"/>
              </a:rPr>
              <a:t>Multiple report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Cash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808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sset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2485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6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6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26"/>
          <p:cNvSpPr/>
          <p:nvPr/>
        </p:nvSpPr>
        <p:spPr>
          <a:xfrm>
            <a:off x="1219320" y="1905120"/>
            <a:ext cx="7162560" cy="419076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E TOTAL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9900"/>
                </a:solidFill>
                <a:latin typeface="Times New Roman"/>
              </a:rPr>
              <a:t>………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29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781680" y="990720"/>
            <a:ext cx="1814760" cy="1600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out" orient="vert"/>
    <p:sndAc>
      <p:stSnd>
        <p:snd r:embed="rId2" name="applaus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75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  MODULES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Material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tock /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ork-in-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ales Orders /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sset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pecial modul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bt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31520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7"/>
          <p:cNvSpPr/>
          <p:nvPr/>
        </p:nvSpPr>
        <p:spPr>
          <a:xfrm>
            <a:off x="2971800" y="152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ample Screen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26" descr="C:\My documents\charct.jpg"/>
          <p:cNvPicPr/>
          <p:nvPr/>
        </p:nvPicPr>
        <p:blipFill>
          <a:blip r:embed="rId1"/>
          <a:stretch/>
        </p:blipFill>
        <p:spPr>
          <a:xfrm>
            <a:off x="0" y="1152360"/>
            <a:ext cx="6400800" cy="45118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30"/>
          <p:cNvSpPr/>
          <p:nvPr/>
        </p:nvSpPr>
        <p:spPr>
          <a:xfrm>
            <a:off x="6630480" y="8380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UI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161640" y="57913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haracter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6429600" y="62136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29" descr="C:\My documents\visual.jpg"/>
          <p:cNvPicPr/>
          <p:nvPr/>
        </p:nvPicPr>
        <p:blipFill>
          <a:blip r:embed="rId2"/>
          <a:stretch/>
        </p:blipFill>
        <p:spPr>
          <a:xfrm>
            <a:off x="28195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nodeType="clickEffect" fill="hold">
                      <p:stCondLst>
                        <p:cond delay="0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8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8" nodeType="after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1219320" y="1905120"/>
            <a:ext cx="7162560" cy="419076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4400"/>
            </a:br>
            <a:r>
              <a:rPr b="0" lang="en-NZ" sz="44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E TOTAL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9933"/>
                </a:solidFill>
                <a:latin typeface="Times New Roman"/>
              </a:rPr>
              <a:t>………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781680" y="990720"/>
            <a:ext cx="1814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75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75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103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sp>
          <p:nvSpPr>
            <p:cNvPr id="210" name="Rectangle 1031"/>
            <p:cNvSpPr/>
            <p:nvPr/>
          </p:nvSpPr>
          <p:spPr>
            <a:xfrm>
              <a:off x="457200" y="609480"/>
              <a:ext cx="3733560" cy="854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032"/>
            <p:cNvSpPr/>
            <p:nvPr/>
          </p:nvSpPr>
          <p:spPr>
            <a:xfrm>
              <a:off x="457200" y="1219320"/>
              <a:ext cx="685800" cy="19810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Text Box 1033"/>
          <p:cNvSpPr/>
          <p:nvPr/>
        </p:nvSpPr>
        <p:spPr>
          <a:xfrm>
            <a:off x="83808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Purchase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34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35"/>
          <p:cNvSpPr/>
          <p:nvPr/>
        </p:nvSpPr>
        <p:spPr>
          <a:xfrm>
            <a:off x="48006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36"/>
          <p:cNvSpPr/>
          <p:nvPr/>
        </p:nvSpPr>
        <p:spPr>
          <a:xfrm>
            <a:off x="1447920" y="16765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38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39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40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221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224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225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48006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1447920" y="16765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4"/>
          <p:cNvSpPr/>
          <p:nvPr/>
        </p:nvSpPr>
        <p:spPr>
          <a:xfrm>
            <a:off x="685800" y="3048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238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241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244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245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nodeType="clickEffect" fill="hold">
                      <p:stCondLst>
                        <p:cond delay="0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2125"/>
                            </p:stCondLst>
                            <p:childTnLst>
                              <p:par>
                                <p:cTn id="1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1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125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258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262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265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266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282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287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290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291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312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317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320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321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75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75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343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349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352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353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0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39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0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1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54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63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75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75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9" descr="C:\Program Files\Common Files\Microsoft Shared\Clipart\cagcat50\pe01846_.wmf"/>
          <p:cNvPicPr/>
          <p:nvPr/>
        </p:nvPicPr>
        <p:blipFill>
          <a:blip r:embed="rId1"/>
          <a:stretch/>
        </p:blipFill>
        <p:spPr>
          <a:xfrm>
            <a:off x="6019920" y="1905120"/>
            <a:ext cx="2666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381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9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6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388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391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392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0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39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40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41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51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54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63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nodeType="clickEffect" fill="hold">
                      <p:stCondLst>
                        <p:cond delay="0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75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75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1975"/>
                            </p:stCondLst>
                            <p:childTnLst>
                              <p:par>
                                <p:cTn id="1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4419720" y="609480"/>
            <a:ext cx="327636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423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9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430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433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434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25"/>
          <p:cNvSpPr/>
          <p:nvPr/>
        </p:nvSpPr>
        <p:spPr>
          <a:xfrm>
            <a:off x="525780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9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40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41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43"/>
          <p:cNvSpPr/>
          <p:nvPr/>
        </p:nvSpPr>
        <p:spPr>
          <a:xfrm>
            <a:off x="4191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51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54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3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75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75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26"/>
          <p:cNvSpPr/>
          <p:nvPr/>
        </p:nvSpPr>
        <p:spPr>
          <a:xfrm>
            <a:off x="4419720" y="609480"/>
            <a:ext cx="327636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027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Group 1028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467" name="Rectangle 1029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030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033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037"/>
          <p:cNvSpPr/>
          <p:nvPr/>
        </p:nvSpPr>
        <p:spPr>
          <a:xfrm>
            <a:off x="4419720" y="3124080"/>
            <a:ext cx="236196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38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39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040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1041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475" name="Rectangle 1042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043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1044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478" name="Group 1045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479" name="Rectangle 1046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Rectangle 1047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Text Box 1048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Text Box 1049"/>
          <p:cNvSpPr/>
          <p:nvPr/>
        </p:nvSpPr>
        <p:spPr>
          <a:xfrm>
            <a:off x="5257800" y="838080"/>
            <a:ext cx="160020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51"/>
          <p:cNvSpPr/>
          <p:nvPr/>
        </p:nvSpPr>
        <p:spPr>
          <a:xfrm>
            <a:off x="8229600" y="990720"/>
            <a:ext cx="30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52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053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054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055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56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57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58"/>
          <p:cNvSpPr/>
          <p:nvPr/>
        </p:nvSpPr>
        <p:spPr>
          <a:xfrm>
            <a:off x="4876920" y="3505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59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060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62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1063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1064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65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67"/>
          <p:cNvSpPr/>
          <p:nvPr/>
        </p:nvSpPr>
        <p:spPr>
          <a:xfrm>
            <a:off x="4191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70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71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72"/>
          <p:cNvSpPr/>
          <p:nvPr/>
        </p:nvSpPr>
        <p:spPr>
          <a:xfrm>
            <a:off x="4876920" y="4114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75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76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77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78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79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81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82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83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84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6"/>
          <p:cNvSpPr/>
          <p:nvPr/>
        </p:nvSpPr>
        <p:spPr>
          <a:xfrm>
            <a:off x="44197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87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75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75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4419720" y="609480"/>
            <a:ext cx="327636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53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516" name="Rectangle 18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20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Rectangle 26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7"/>
          <p:cNvSpPr/>
          <p:nvPr/>
        </p:nvSpPr>
        <p:spPr>
          <a:xfrm>
            <a:off x="6019920" y="1600200"/>
            <a:ext cx="167616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9"/>
          <p:cNvSpPr/>
          <p:nvPr/>
        </p:nvSpPr>
        <p:spPr>
          <a:xfrm>
            <a:off x="4419720" y="3124080"/>
            <a:ext cx="236196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46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7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8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525" name="Rectangle 50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55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528" name="Group 49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529" name="Rectangle 9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2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Text Box 56"/>
          <p:cNvSpPr/>
          <p:nvPr/>
        </p:nvSpPr>
        <p:spPr>
          <a:xfrm>
            <a:off x="5257800" y="838080"/>
            <a:ext cx="160020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7"/>
          <p:cNvSpPr/>
          <p:nvPr/>
        </p:nvSpPr>
        <p:spPr>
          <a:xfrm>
            <a:off x="617220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9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0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1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2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3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4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5"/>
          <p:cNvSpPr/>
          <p:nvPr/>
        </p:nvSpPr>
        <p:spPr>
          <a:xfrm>
            <a:off x="4876920" y="3505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66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7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9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0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71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2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4"/>
          <p:cNvSpPr/>
          <p:nvPr/>
        </p:nvSpPr>
        <p:spPr>
          <a:xfrm>
            <a:off x="4191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77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78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80"/>
          <p:cNvSpPr/>
          <p:nvPr/>
        </p:nvSpPr>
        <p:spPr>
          <a:xfrm>
            <a:off x="4876920" y="4114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83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4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5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86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7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88"/>
          <p:cNvSpPr/>
          <p:nvPr/>
        </p:nvSpPr>
        <p:spPr>
          <a:xfrm>
            <a:off x="6858000" y="1371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9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0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91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92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93"/>
          <p:cNvSpPr/>
          <p:nvPr/>
        </p:nvSpPr>
        <p:spPr>
          <a:xfrm>
            <a:off x="62485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94"/>
          <p:cNvSpPr/>
          <p:nvPr/>
        </p:nvSpPr>
        <p:spPr>
          <a:xfrm>
            <a:off x="44197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95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75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75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4419720" y="609480"/>
            <a:ext cx="327636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568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64"/>
          <p:cNvGrpSpPr/>
          <p:nvPr/>
        </p:nvGrpSpPr>
        <p:grpSpPr>
          <a:xfrm>
            <a:off x="6934320" y="609480"/>
            <a:ext cx="1981080" cy="3733920"/>
            <a:chOff x="6934320" y="609480"/>
            <a:chExt cx="1981080" cy="3733920"/>
          </a:xfrm>
        </p:grpSpPr>
        <p:sp>
          <p:nvSpPr>
            <p:cNvPr id="571" name="Rectangle 7"/>
            <p:cNvSpPr/>
            <p:nvPr/>
          </p:nvSpPr>
          <p:spPr>
            <a:xfrm>
              <a:off x="7924680" y="609480"/>
              <a:ext cx="990720" cy="27432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8"/>
            <p:cNvSpPr/>
            <p:nvPr/>
          </p:nvSpPr>
          <p:spPr>
            <a:xfrm>
              <a:off x="6934320" y="3124080"/>
              <a:ext cx="1981080" cy="121932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Rectangle 9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6019920" y="1600200"/>
            <a:ext cx="167616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3"/>
          <p:cNvSpPr/>
          <p:nvPr/>
        </p:nvSpPr>
        <p:spPr>
          <a:xfrm>
            <a:off x="4419720" y="3124080"/>
            <a:ext cx="236196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6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580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583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584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Text Box 25"/>
          <p:cNvSpPr/>
          <p:nvPr/>
        </p:nvSpPr>
        <p:spPr>
          <a:xfrm>
            <a:off x="5257800" y="838080"/>
            <a:ext cx="160020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6"/>
          <p:cNvSpPr/>
          <p:nvPr/>
        </p:nvSpPr>
        <p:spPr>
          <a:xfrm>
            <a:off x="617220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8229600" y="990720"/>
            <a:ext cx="30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ed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9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0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4876920" y="3505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39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0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1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2"/>
          <p:cNvSpPr/>
          <p:nvPr/>
        </p:nvSpPr>
        <p:spPr>
          <a:xfrm>
            <a:off x="7620120" y="2286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3"/>
          <p:cNvSpPr/>
          <p:nvPr/>
        </p:nvSpPr>
        <p:spPr>
          <a:xfrm>
            <a:off x="4191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4"/>
          <p:cNvSpPr/>
          <p:nvPr/>
        </p:nvSpPr>
        <p:spPr>
          <a:xfrm>
            <a:off x="7620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45"/>
          <p:cNvSpPr/>
          <p:nvPr/>
        </p:nvSpPr>
        <p:spPr>
          <a:xfrm>
            <a:off x="6705720" y="36576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48"/>
          <p:cNvSpPr/>
          <p:nvPr/>
        </p:nvSpPr>
        <p:spPr>
          <a:xfrm>
            <a:off x="4876920" y="4114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51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54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56"/>
          <p:cNvSpPr/>
          <p:nvPr/>
        </p:nvSpPr>
        <p:spPr>
          <a:xfrm>
            <a:off x="6858000" y="1371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61"/>
          <p:cNvSpPr/>
          <p:nvPr/>
        </p:nvSpPr>
        <p:spPr>
          <a:xfrm>
            <a:off x="62485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2"/>
          <p:cNvSpPr/>
          <p:nvPr/>
        </p:nvSpPr>
        <p:spPr>
          <a:xfrm>
            <a:off x="44197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63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4419720" y="609480"/>
            <a:ext cx="327636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627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Rectangle 7"/>
          <p:cNvSpPr/>
          <p:nvPr/>
        </p:nvSpPr>
        <p:spPr>
          <a:xfrm>
            <a:off x="7924680" y="609480"/>
            <a:ext cx="990720" cy="27432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6934320" y="3124080"/>
            <a:ext cx="198108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6019920" y="1600200"/>
            <a:ext cx="167616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5638680" y="4495680"/>
            <a:ext cx="198144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4419720" y="3124080"/>
            <a:ext cx="236196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639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642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643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5257800" y="838080"/>
            <a:ext cx="160020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617220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8229600" y="990720"/>
            <a:ext cx="30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ed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4876920" y="3505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39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40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1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42"/>
          <p:cNvSpPr/>
          <p:nvPr/>
        </p:nvSpPr>
        <p:spPr>
          <a:xfrm>
            <a:off x="7620120" y="2286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43"/>
          <p:cNvSpPr/>
          <p:nvPr/>
        </p:nvSpPr>
        <p:spPr>
          <a:xfrm>
            <a:off x="4191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4"/>
          <p:cNvSpPr/>
          <p:nvPr/>
        </p:nvSpPr>
        <p:spPr>
          <a:xfrm>
            <a:off x="7620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5"/>
          <p:cNvSpPr/>
          <p:nvPr/>
        </p:nvSpPr>
        <p:spPr>
          <a:xfrm>
            <a:off x="6705720" y="36576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8"/>
          <p:cNvSpPr/>
          <p:nvPr/>
        </p:nvSpPr>
        <p:spPr>
          <a:xfrm>
            <a:off x="4876920" y="4114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9"/>
          <p:cNvSpPr/>
          <p:nvPr/>
        </p:nvSpPr>
        <p:spPr>
          <a:xfrm>
            <a:off x="7162920" y="42670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51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4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56"/>
          <p:cNvSpPr/>
          <p:nvPr/>
        </p:nvSpPr>
        <p:spPr>
          <a:xfrm>
            <a:off x="6858000" y="1371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1"/>
          <p:cNvSpPr/>
          <p:nvPr/>
        </p:nvSpPr>
        <p:spPr>
          <a:xfrm>
            <a:off x="62485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62"/>
          <p:cNvSpPr/>
          <p:nvPr/>
        </p:nvSpPr>
        <p:spPr>
          <a:xfrm>
            <a:off x="44197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63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68"/>
          <p:cNvSpPr/>
          <p:nvPr/>
        </p:nvSpPr>
        <p:spPr>
          <a:xfrm>
            <a:off x="541008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75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75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"/>
          <p:cNvSpPr/>
          <p:nvPr/>
        </p:nvSpPr>
        <p:spPr>
          <a:xfrm>
            <a:off x="4419720" y="609480"/>
            <a:ext cx="327636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1447920" y="1600200"/>
            <a:ext cx="1218960" cy="5335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457200" y="3352680"/>
            <a:ext cx="5028480" cy="1981440"/>
            <a:chOff x="457200" y="3352680"/>
            <a:chExt cx="5028480" cy="1981440"/>
          </a:xfrm>
        </p:grpSpPr>
        <p:sp>
          <p:nvSpPr>
            <p:cNvPr id="688" name="Rectangle 5"/>
            <p:cNvSpPr/>
            <p:nvPr/>
          </p:nvSpPr>
          <p:spPr>
            <a:xfrm>
              <a:off x="457200" y="3352680"/>
              <a:ext cx="729720" cy="1981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6"/>
            <p:cNvSpPr/>
            <p:nvPr/>
          </p:nvSpPr>
          <p:spPr>
            <a:xfrm>
              <a:off x="1186920" y="4495680"/>
              <a:ext cx="4298760" cy="83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7"/>
          <p:cNvSpPr/>
          <p:nvPr/>
        </p:nvSpPr>
        <p:spPr>
          <a:xfrm>
            <a:off x="7924680" y="609480"/>
            <a:ext cx="990720" cy="27432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6934320" y="3124080"/>
            <a:ext cx="198108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4800600" y="1600200"/>
            <a:ext cx="9907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6019920" y="1600200"/>
            <a:ext cx="167616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7772400" y="4495680"/>
            <a:ext cx="114300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5638680" y="4495680"/>
            <a:ext cx="1981440" cy="83844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4419720" y="3124080"/>
            <a:ext cx="236196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3352680" y="3124080"/>
            <a:ext cx="9144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2057400" y="3124080"/>
            <a:ext cx="1143000" cy="121932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2743200" y="1600200"/>
            <a:ext cx="1905120" cy="13716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Group 17"/>
          <p:cNvGrpSpPr/>
          <p:nvPr/>
        </p:nvGrpSpPr>
        <p:grpSpPr>
          <a:xfrm>
            <a:off x="1447920" y="2286000"/>
            <a:ext cx="1218600" cy="2057400"/>
            <a:chOff x="1447920" y="2286000"/>
            <a:chExt cx="1218600" cy="2057400"/>
          </a:xfrm>
        </p:grpSpPr>
        <p:sp>
          <p:nvSpPr>
            <p:cNvPr id="701" name="Rectangle 18"/>
            <p:cNvSpPr/>
            <p:nvPr/>
          </p:nvSpPr>
          <p:spPr>
            <a:xfrm>
              <a:off x="1447920" y="2286000"/>
              <a:ext cx="1218600" cy="685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19"/>
            <p:cNvSpPr/>
            <p:nvPr/>
          </p:nvSpPr>
          <p:spPr>
            <a:xfrm>
              <a:off x="1447920" y="2971800"/>
              <a:ext cx="468720" cy="1371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20"/>
          <p:cNvGrpSpPr/>
          <p:nvPr/>
        </p:nvGrpSpPr>
        <p:grpSpPr>
          <a:xfrm>
            <a:off x="457200" y="609480"/>
            <a:ext cx="3733560" cy="2590920"/>
            <a:chOff x="457200" y="609480"/>
            <a:chExt cx="3733560" cy="2590920"/>
          </a:xfrm>
        </p:grpSpPr>
        <p:grpSp>
          <p:nvGrpSpPr>
            <p:cNvPr id="704" name="Group 21"/>
            <p:cNvGrpSpPr/>
            <p:nvPr/>
          </p:nvGrpSpPr>
          <p:grpSpPr>
            <a:xfrm>
              <a:off x="457200" y="609480"/>
              <a:ext cx="3733560" cy="2590920"/>
              <a:chOff x="457200" y="609480"/>
              <a:chExt cx="3733560" cy="2590920"/>
            </a:xfrm>
          </p:grpSpPr>
          <p:sp>
            <p:nvSpPr>
              <p:cNvPr id="705" name="Rectangle 22"/>
              <p:cNvSpPr/>
              <p:nvPr/>
            </p:nvSpPr>
            <p:spPr>
              <a:xfrm>
                <a:off x="457200" y="609480"/>
                <a:ext cx="3733560" cy="8542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23"/>
              <p:cNvSpPr/>
              <p:nvPr/>
            </p:nvSpPr>
            <p:spPr>
              <a:xfrm>
                <a:off x="457200" y="1219320"/>
                <a:ext cx="685800" cy="198108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Text Box 24"/>
            <p:cNvSpPr/>
            <p:nvPr/>
          </p:nvSpPr>
          <p:spPr>
            <a:xfrm>
              <a:off x="914400" y="838080"/>
              <a:ext cx="2819160" cy="3988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Times New Roman"/>
                </a:rPr>
                <a:t>Purchas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Text Box 25"/>
          <p:cNvSpPr/>
          <p:nvPr/>
        </p:nvSpPr>
        <p:spPr>
          <a:xfrm>
            <a:off x="5257800" y="838080"/>
            <a:ext cx="160020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6"/>
          <p:cNvSpPr/>
          <p:nvPr/>
        </p:nvSpPr>
        <p:spPr>
          <a:xfrm>
            <a:off x="617220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ash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7"/>
          <p:cNvSpPr/>
          <p:nvPr/>
        </p:nvSpPr>
        <p:spPr>
          <a:xfrm>
            <a:off x="8229600" y="990720"/>
            <a:ext cx="30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73152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ed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480060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ales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2819520" y="18288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 Orders                / 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1"/>
          <p:cNvSpPr/>
          <p:nvPr/>
        </p:nvSpPr>
        <p:spPr>
          <a:xfrm>
            <a:off x="14479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32"/>
          <p:cNvSpPr/>
          <p:nvPr/>
        </p:nvSpPr>
        <p:spPr>
          <a:xfrm>
            <a:off x="2057400" y="3124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arehouse Palle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3"/>
          <p:cNvSpPr/>
          <p:nvPr/>
        </p:nvSpPr>
        <p:spPr>
          <a:xfrm>
            <a:off x="33526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lls of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4"/>
          <p:cNvSpPr/>
          <p:nvPr/>
        </p:nvSpPr>
        <p:spPr>
          <a:xfrm>
            <a:off x="4876920" y="3505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b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5"/>
          <p:cNvSpPr/>
          <p:nvPr/>
        </p:nvSpPr>
        <p:spPr>
          <a:xfrm>
            <a:off x="685800" y="4648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in Progress / Job Costing /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6"/>
          <p:cNvSpPr/>
          <p:nvPr/>
        </p:nvSpPr>
        <p:spPr>
          <a:xfrm>
            <a:off x="58672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7772400" y="45720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ssets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1600200" y="2286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ock/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39"/>
          <p:cNvSpPr/>
          <p:nvPr/>
        </p:nvSpPr>
        <p:spPr>
          <a:xfrm>
            <a:off x="259092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40"/>
          <p:cNvSpPr/>
          <p:nvPr/>
        </p:nvSpPr>
        <p:spPr>
          <a:xfrm>
            <a:off x="25909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41"/>
          <p:cNvSpPr/>
          <p:nvPr/>
        </p:nvSpPr>
        <p:spPr>
          <a:xfrm>
            <a:off x="4572000" y="2209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2"/>
          <p:cNvSpPr/>
          <p:nvPr/>
        </p:nvSpPr>
        <p:spPr>
          <a:xfrm>
            <a:off x="7620120" y="2286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43"/>
          <p:cNvSpPr/>
          <p:nvPr/>
        </p:nvSpPr>
        <p:spPr>
          <a:xfrm>
            <a:off x="4191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44"/>
          <p:cNvSpPr/>
          <p:nvPr/>
        </p:nvSpPr>
        <p:spPr>
          <a:xfrm>
            <a:off x="7620120" y="914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45"/>
          <p:cNvSpPr/>
          <p:nvPr/>
        </p:nvSpPr>
        <p:spPr>
          <a:xfrm>
            <a:off x="6705720" y="36576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6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47"/>
          <p:cNvSpPr/>
          <p:nvPr/>
        </p:nvSpPr>
        <p:spPr>
          <a:xfrm>
            <a:off x="114300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48"/>
          <p:cNvSpPr/>
          <p:nvPr/>
        </p:nvSpPr>
        <p:spPr>
          <a:xfrm>
            <a:off x="4876920" y="4114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49"/>
          <p:cNvSpPr/>
          <p:nvPr/>
        </p:nvSpPr>
        <p:spPr>
          <a:xfrm>
            <a:off x="7162920" y="42670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50"/>
          <p:cNvSpPr/>
          <p:nvPr/>
        </p:nvSpPr>
        <p:spPr>
          <a:xfrm>
            <a:off x="815328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51"/>
          <p:cNvSpPr/>
          <p:nvPr/>
        </p:nvSpPr>
        <p:spPr>
          <a:xfrm>
            <a:off x="3733920" y="28954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52"/>
          <p:cNvSpPr/>
          <p:nvPr/>
        </p:nvSpPr>
        <p:spPr>
          <a:xfrm>
            <a:off x="76212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ERENADE BUSINES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53"/>
          <p:cNvSpPr/>
          <p:nvPr/>
        </p:nvSpPr>
        <p:spPr>
          <a:xfrm>
            <a:off x="1676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ODUL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54"/>
          <p:cNvSpPr/>
          <p:nvPr/>
        </p:nvSpPr>
        <p:spPr>
          <a:xfrm>
            <a:off x="2743200" y="2819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55"/>
          <p:cNvSpPr/>
          <p:nvPr/>
        </p:nvSpPr>
        <p:spPr>
          <a:xfrm>
            <a:off x="2209680" y="28954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56"/>
          <p:cNvSpPr/>
          <p:nvPr/>
        </p:nvSpPr>
        <p:spPr>
          <a:xfrm>
            <a:off x="6858000" y="1371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57"/>
          <p:cNvSpPr/>
          <p:nvPr/>
        </p:nvSpPr>
        <p:spPr>
          <a:xfrm>
            <a:off x="685800" y="3124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58"/>
          <p:cNvSpPr/>
          <p:nvPr/>
        </p:nvSpPr>
        <p:spPr>
          <a:xfrm>
            <a:off x="1523880" y="4191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59"/>
          <p:cNvSpPr/>
          <p:nvPr/>
        </p:nvSpPr>
        <p:spPr>
          <a:xfrm>
            <a:off x="2438280" y="4267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60"/>
          <p:cNvSpPr/>
          <p:nvPr/>
        </p:nvSpPr>
        <p:spPr>
          <a:xfrm>
            <a:off x="3657600" y="42670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61"/>
          <p:cNvSpPr/>
          <p:nvPr/>
        </p:nvSpPr>
        <p:spPr>
          <a:xfrm>
            <a:off x="62485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62"/>
          <p:cNvSpPr/>
          <p:nvPr/>
        </p:nvSpPr>
        <p:spPr>
          <a:xfrm>
            <a:off x="44197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63"/>
          <p:cNvSpPr/>
          <p:nvPr/>
        </p:nvSpPr>
        <p:spPr>
          <a:xfrm>
            <a:off x="3505320" y="1447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64"/>
          <p:cNvSpPr/>
          <p:nvPr/>
        </p:nvSpPr>
        <p:spPr>
          <a:xfrm>
            <a:off x="541008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65"/>
          <p:cNvSpPr/>
          <p:nvPr/>
        </p:nvSpPr>
        <p:spPr>
          <a:xfrm>
            <a:off x="7315200" y="5715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0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75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75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80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08000"/>
                </a:solidFill>
                <a:latin typeface="Times New Roman"/>
              </a:rPr>
              <a:t>For further information</a:t>
            </a:r>
            <a:br>
              <a:rPr sz="3600"/>
            </a:br>
            <a:r>
              <a:rPr b="0" lang="en-NZ" sz="3600" spc="-1" strike="noStrike">
                <a:solidFill>
                  <a:srgbClr val="808000"/>
                </a:solidFill>
                <a:latin typeface="Times New Roman"/>
              </a:rPr>
              <a:t>Contact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errata Systems &amp; Software L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O Box 128-5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Auckland 15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hone  +64 (09) 522-42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Fax  +64 (09) 522-42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-Mail  </a:t>
            </a:r>
            <a:r>
              <a:rPr b="0" lang="en-NZ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ales@serenade.co.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ww.serenade.co.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7540560" y="552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Times New Roman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9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4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9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4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4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6" nodeType="afterEffect" fill="hold" presetClass="entr" presetID="2" presetSubtype="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28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9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6019920" y="1905120"/>
            <a:ext cx="2555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6019920" y="1905120"/>
            <a:ext cx="2590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asy to 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C:\Program Files\Microsoft Office\Clipart\Popular\amhappy.wmf"/>
          <p:cNvPicPr/>
          <p:nvPr/>
        </p:nvPicPr>
        <p:blipFill>
          <a:blip r:embed="rId1"/>
          <a:stretch/>
        </p:blipFill>
        <p:spPr>
          <a:xfrm>
            <a:off x="6019920" y="1905120"/>
            <a:ext cx="25905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asy to 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nstructed in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C:\Program Files\Common Files\Microsoft Shared\Clipart\cagcat50\in00483_.wmf"/>
          <p:cNvPicPr/>
          <p:nvPr/>
        </p:nvPicPr>
        <p:blipFill>
          <a:blip r:embed="rId1"/>
          <a:stretch/>
        </p:blipFill>
        <p:spPr>
          <a:xfrm>
            <a:off x="6477120" y="1905120"/>
            <a:ext cx="175248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Serrata Systems and  Softwar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SERENADE</a:t>
            </a:r>
            <a:br>
              <a:rPr sz="2800"/>
            </a:br>
            <a:r>
              <a:rPr b="0" lang="en-NZ" sz="2800" spc="-1" strike="noStrike">
                <a:solidFill>
                  <a:srgbClr val="808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lti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Fully Fea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asy to 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nstructed in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mpetitively Priced by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019920" y="1905120"/>
            <a:ext cx="2590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C:\Program Files\Common Files\Microsoft Shared\Clipart\cagcat50\bs00508_.wmf"/>
          <p:cNvPicPr/>
          <p:nvPr/>
        </p:nvPicPr>
        <p:blipFill>
          <a:blip r:embed="rId1"/>
          <a:stretch/>
        </p:blipFill>
        <p:spPr>
          <a:xfrm>
            <a:off x="6019920" y="1905120"/>
            <a:ext cx="2590560" cy="173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03:24:49Z</dcterms:created>
  <dc:creator>Ted</dc:creator>
  <dc:description/>
  <dc:language>en-US</dc:language>
  <cp:lastModifiedBy>russell</cp:lastModifiedBy>
  <dcterms:modified xsi:type="dcterms:W3CDTF">2016-04-19T22:22:19Z</dcterms:modified>
  <cp:revision>85</cp:revision>
  <dc:subject/>
  <dc:title>Welcome to SERENADE BUSINESS SOFTWARE</dc:title>
</cp:coreProperties>
</file>